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7ED0-339A-4BD8-BEA5-DE03B3803B75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8640-2AEE-43A4-B635-90C39249B095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A7CA-6F14-4070-97E5-DCD08A1293FE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L XML snippet containing contextual metadata in computer friendly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E018-A957-484C-8808-06994A3C5CFA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r friendly, but the human-readable info is still in t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9B18-523C-4118-B224-A6C3DB7FF19A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AC5C-DD5C-4791-9B34-75EDCCC8436A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xample of computer-friendly metadata standards in 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8BA7-AA52-45F1-B121-744C08FD2884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marL="22932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67720" indent="-2289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5004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33236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71468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5000"/>
          </a:bodyPr>
          <a:p>
            <a:pPr marL="19980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49500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82836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16208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49544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495440" indent="-19980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495440" indent="-19980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274320" indent="-2743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274320" indent="-2743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274320" indent="-2743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274320" indent="-2743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274320" indent="-2743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274320" indent="-2743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-78120" y="299880"/>
            <a:ext cx="530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Module Template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Subtitle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marL="22932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67720" indent="-2289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5004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33236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71468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Introduction to Metadata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Metadata Standards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Lynn Yarme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tional Snow and Ice Data Center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Date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Box 7"/>
          <p:cNvSpPr/>
          <p:nvPr/>
        </p:nvSpPr>
        <p:spPr>
          <a:xfrm>
            <a:off x="663480" y="2286000"/>
            <a:ext cx="11671560" cy="64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attributeName&gt;Sea Surface Temperature&lt;/attributeName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attributeDefinition&gt;temperature measurement&lt;/attributeDefinition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measurementScale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unit&gt;celsius&lt;/unit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numericDomain&gt;&lt;numberType&gt;real&lt;/numberType&gt;&lt;/numericDomain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/measurementScale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missingValueCode&gt;&lt;code&gt;-99&lt;/code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codeExplanation&gt;missing value&lt;/codeExplanation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/missingValueCode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missingValueCode&gt;&lt;code&gt;-999&lt;/code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codeExplanation&gt;missing value&lt;/codeExplanation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/missingValueCode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missingValueCode&gt;&lt;code&gt;-99999&lt;/code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codeExplanation&gt;missing value&lt;/codeExplanation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/missingValueCode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methods&gt;&lt;description&gt; subject { seaSurface } &lt;/description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description&gt; calculationType { calculated }; calculationTypeDetail { average }; calculationInterval { day }; &lt;/description&gt;&lt;/methods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6" name="TextBox 9"/>
          <p:cNvSpPr/>
          <p:nvPr/>
        </p:nvSpPr>
        <p:spPr>
          <a:xfrm>
            <a:off x="260280" y="8709120"/>
            <a:ext cx="12566880" cy="15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Scripps Institution Of Oceanography Pier Water Temperature - Station Dataset (CCELTER). [Online]. Scripps Institution 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of Oceanography Shore Station Program [Producer]. Oceaninformatics Datazoo [Distributor].  (February 28, 2011).  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http://oceaninformatics.ucsd.edu/datazoo/data/ccelter/datasets?action=summary&amp;id=15 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adata Standards - XML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ounded Rectangle 4"/>
          <p:cNvSpPr/>
          <p:nvPr/>
        </p:nvSpPr>
        <p:spPr>
          <a:xfrm>
            <a:off x="2768760" y="2286000"/>
            <a:ext cx="3124080" cy="457200"/>
          </a:xfrm>
          <a:prstGeom prst="roundRect">
            <a:avLst>
              <a:gd name="adj" fmla="val 16667"/>
            </a:avLst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9" name="Rounded Rectangle 5"/>
          <p:cNvSpPr/>
          <p:nvPr/>
        </p:nvSpPr>
        <p:spPr>
          <a:xfrm>
            <a:off x="2006640" y="327672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0" name="Rounded Rectangle 8"/>
          <p:cNvSpPr/>
          <p:nvPr/>
        </p:nvSpPr>
        <p:spPr>
          <a:xfrm>
            <a:off x="4216320" y="4343400"/>
            <a:ext cx="685800" cy="457200"/>
          </a:xfrm>
          <a:prstGeom prst="roundRect">
            <a:avLst>
              <a:gd name="adj" fmla="val 16667"/>
            </a:avLst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1" name="Rounded Rectangle 10"/>
          <p:cNvSpPr/>
          <p:nvPr/>
        </p:nvSpPr>
        <p:spPr>
          <a:xfrm>
            <a:off x="4216320" y="5334120"/>
            <a:ext cx="762120" cy="457200"/>
          </a:xfrm>
          <a:prstGeom prst="roundRect">
            <a:avLst>
              <a:gd name="adj" fmla="val 16667"/>
            </a:avLst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2" name="Rounded Rectangle 11"/>
          <p:cNvSpPr/>
          <p:nvPr/>
        </p:nvSpPr>
        <p:spPr>
          <a:xfrm>
            <a:off x="4216320" y="6324480"/>
            <a:ext cx="1067040" cy="457200"/>
          </a:xfrm>
          <a:prstGeom prst="roundRect">
            <a:avLst>
              <a:gd name="adj" fmla="val 16667"/>
            </a:avLst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3" name="Rounded Rectangle 12"/>
          <p:cNvSpPr/>
          <p:nvPr/>
        </p:nvSpPr>
        <p:spPr>
          <a:xfrm>
            <a:off x="4978440" y="7315200"/>
            <a:ext cx="1523880" cy="457200"/>
          </a:xfrm>
          <a:prstGeom prst="roundRect">
            <a:avLst>
              <a:gd name="adj" fmla="val 16667"/>
            </a:avLst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4" name="Rounded Rectangle 13"/>
          <p:cNvSpPr/>
          <p:nvPr/>
        </p:nvSpPr>
        <p:spPr>
          <a:xfrm>
            <a:off x="5435640" y="769608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5" name="Rounded Rectangle 14"/>
          <p:cNvSpPr/>
          <p:nvPr/>
        </p:nvSpPr>
        <p:spPr>
          <a:xfrm>
            <a:off x="9702720" y="7620120"/>
            <a:ext cx="1143000" cy="457200"/>
          </a:xfrm>
          <a:prstGeom prst="roundRect">
            <a:avLst>
              <a:gd name="adj" fmla="val 16667"/>
            </a:avLst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6" name="Rounded Rectangle 15"/>
          <p:cNvSpPr/>
          <p:nvPr/>
        </p:nvSpPr>
        <p:spPr>
          <a:xfrm>
            <a:off x="3073320" y="8001000"/>
            <a:ext cx="685800" cy="457200"/>
          </a:xfrm>
          <a:prstGeom prst="roundRect">
            <a:avLst>
              <a:gd name="adj" fmla="val 16667"/>
            </a:avLst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7" name="TextBox 7"/>
          <p:cNvSpPr/>
          <p:nvPr/>
        </p:nvSpPr>
        <p:spPr>
          <a:xfrm>
            <a:off x="663480" y="2286000"/>
            <a:ext cx="11671560" cy="64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attributeName&gt;Sea Surface Temperature&lt;/attributeName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attributeDefinition&gt;temperature measurement&lt;/attributeDefinition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measurementScale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unit&gt;celsius&lt;/unit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numericDomain&gt;&lt;numberType&gt;real&lt;/numberType&gt;&lt;/numericDomain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/measurementScale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missingValueCode&gt;&lt;code&gt;-99&lt;/code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codeExplanation&gt;missing value&lt;/codeExplanation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/missingValueCode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missingValueCode&gt;&lt;code&gt;-999&lt;/code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codeExplanation&gt;missing value&lt;/codeExplanation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/missingValueCode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missingValueCode&gt;&lt;code&gt;-99999&lt;/code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codeExplanation&gt;missing value&lt;/codeExplanation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/missingValueCode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methods&gt;&lt;description&gt; subject { seaSurface } &lt;/description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elvetica Neue Light"/>
              </a:rPr>
              <a:t>&lt;description&gt; calculationType { calculated }; calculationTypeDetail { average }; calculationInterval { day }; &lt;/description&gt;&lt;/methods&gt;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8" name="TextBox 9"/>
          <p:cNvSpPr/>
          <p:nvPr/>
        </p:nvSpPr>
        <p:spPr>
          <a:xfrm>
            <a:off x="260280" y="8709120"/>
            <a:ext cx="12566880" cy="15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Scripps Institution Of Oceanography Pier Water Temperature - Station Dataset (CCELTER). [Online]. Scripps Institution 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of Oceanography Shore Station Program [Producer]. Oceaninformatics Datazoo [Distributor].  (February 28, 2011).  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http://oceaninformatics.ucsd.edu/datazoo/data/ccelter/datasets?action=summary&amp;id=15 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adata Standards - XML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adata Standards - Typ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1" name="TextBox 16"/>
          <p:cNvSpPr/>
          <p:nvPr/>
        </p:nvSpPr>
        <p:spPr>
          <a:xfrm>
            <a:off x="-1465560" y="2590920"/>
            <a:ext cx="158169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</a:rPr>
              <a:t>The previous example was showing contextual metadata, 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</a:rPr>
              <a:t>there are other types of metadata and metadata standards: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Discovery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Citation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Provenance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Access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Archiving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Technical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Etc…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Box 8"/>
          <p:cNvSpPr/>
          <p:nvPr/>
        </p:nvSpPr>
        <p:spPr>
          <a:xfrm>
            <a:off x="598320" y="2317680"/>
            <a:ext cx="11693520" cy="81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ros: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Standards exist!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If everyone used them, you could do very cool scienc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ons: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ompliance is often a lot of work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There are lot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However, there are baby steps to get started!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Box 6"/>
          <p:cNvSpPr/>
          <p:nvPr/>
        </p:nvSpPr>
        <p:spPr>
          <a:xfrm>
            <a:off x="330120" y="2235240"/>
            <a:ext cx="12420720" cy="987948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ips for the short-term: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- Get your own house in order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- use common date formats, codes, smart file names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Helvetica Neue"/>
              </a:rPr>
              <a:t>-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Helvetica Neue"/>
              </a:rPr>
              <a:t>WRITE EVERYTHING DOWN!</a:t>
            </a:r>
            <a:r>
              <a:rPr b="1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(keep good readme files)  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- Put in the time early on to implement a standard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- most have minimum compliance levels 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- options to get more detailed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- Stay flexible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ips for the long-term: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- Get help!   (Librarians, standards groups, data centers, 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omain communities, tools)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- Watch for Best Practices and standards in your field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xcel Plug-in tool - in developmen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(Incomplete) Lists of Standards resourc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Global Change Master Directory Standards Lis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IESIN Standards Pag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For bio, climate, ecology, oceanography – marinemetadata.org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For medical/bio – BioOntology Portal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nd many others…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ocumentation and Metadata sec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etadata – defining terms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Example conten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 note about XM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How to get start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Jargon - 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TextBox 4"/>
          <p:cNvSpPr/>
          <p:nvPr/>
        </p:nvSpPr>
        <p:spPr>
          <a:xfrm>
            <a:off x="3292200" y="2362320"/>
            <a:ext cx="5960160" cy="8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elvetica Neue Light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Helvetica Neue Light"/>
              </a:rPr>
              <a:t>Data about Data”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8" name="TextBox 5"/>
          <p:cNvSpPr/>
          <p:nvPr/>
        </p:nvSpPr>
        <p:spPr>
          <a:xfrm>
            <a:off x="4600440" y="8534520"/>
            <a:ext cx="902376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f7f7f"/>
                </a:solidFill>
                <a:latin typeface="Helvetica Neue Light"/>
              </a:rPr>
              <a:t>But what does that MEAN?!</a:t>
            </a:r>
            <a:endParaRPr b="0" lang="en-US" sz="4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Box 8"/>
          <p:cNvSpPr/>
          <p:nvPr/>
        </p:nvSpPr>
        <p:spPr>
          <a:xfrm>
            <a:off x="558720" y="2743200"/>
            <a:ext cx="11692080" cy="80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What would someone* unfamiliar with your data (and possibly your research) need in order to find, evaluate, understand, and reuse them?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*How about someone: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- who works in your lab?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- from a different lab in your field?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- from a completely different domain?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- who works for a newspaper?  For Congress?  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adata – The Bottom Lin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TextBox 8"/>
          <p:cNvSpPr/>
          <p:nvPr/>
        </p:nvSpPr>
        <p:spPr>
          <a:xfrm>
            <a:off x="3068640" y="3365640"/>
            <a:ext cx="607068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000000"/>
                </a:solidFill>
                <a:latin typeface="Helvetica Neue Light"/>
              </a:rPr>
              <a:t>Temperature</a:t>
            </a:r>
            <a:endParaRPr b="0" lang="en-US" sz="85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000000"/>
                </a:solidFill>
                <a:latin typeface="Helvetica Neue Light"/>
              </a:rPr>
              <a:t>31.5</a:t>
            </a:r>
            <a:endParaRPr b="0" lang="en-US" sz="85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adata - Exampl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Box 6"/>
          <p:cNvSpPr/>
          <p:nvPr/>
        </p:nvSpPr>
        <p:spPr>
          <a:xfrm rot="20885400">
            <a:off x="-19800" y="3352320"/>
            <a:ext cx="376596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e6e6e"/>
                </a:solidFill>
                <a:latin typeface="Helvetica Neue Light"/>
              </a:rPr>
              <a:t>Of what?  </a:t>
            </a:r>
            <a:endParaRPr b="0" lang="en-US" sz="4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4" name="TextBox 7"/>
          <p:cNvSpPr/>
          <p:nvPr/>
        </p:nvSpPr>
        <p:spPr>
          <a:xfrm rot="540600">
            <a:off x="5476320" y="5978520"/>
            <a:ext cx="41468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22268"/>
                </a:solidFill>
                <a:latin typeface="Helvetica Neue Light"/>
              </a:rPr>
              <a:t>Collected when?</a:t>
            </a:r>
            <a:endParaRPr b="0" lang="en-US" sz="3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TextBox 9"/>
          <p:cNvSpPr/>
          <p:nvPr/>
        </p:nvSpPr>
        <p:spPr>
          <a:xfrm rot="206400">
            <a:off x="7388280" y="8172360"/>
            <a:ext cx="3887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Helvetica Neue Light"/>
              </a:rPr>
              <a:t>Collected how?</a:t>
            </a:r>
            <a:endParaRPr b="0" lang="en-US" sz="3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6" name="TextBox 11"/>
          <p:cNvSpPr/>
          <p:nvPr/>
        </p:nvSpPr>
        <p:spPr>
          <a:xfrm rot="607200">
            <a:off x="9360360" y="3227040"/>
            <a:ext cx="28515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According </a:t>
            </a:r>
            <a:endParaRPr b="0" lang="en-US" sz="34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to whom?</a:t>
            </a:r>
            <a:endParaRPr b="0" lang="en-US" sz="3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TextBox 12"/>
          <p:cNvSpPr/>
          <p:nvPr/>
        </p:nvSpPr>
        <p:spPr>
          <a:xfrm rot="244200">
            <a:off x="47160" y="8474040"/>
            <a:ext cx="5960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00"/>
                </a:solidFill>
                <a:latin typeface="Helvetica Neue Light"/>
              </a:rPr>
              <a:t>Averaged?  Calculated?</a:t>
            </a:r>
            <a:endParaRPr b="0" lang="en-US" sz="3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8" name="TextBox 13"/>
          <p:cNvSpPr/>
          <p:nvPr/>
        </p:nvSpPr>
        <p:spPr>
          <a:xfrm rot="21098400">
            <a:off x="9374760" y="6300720"/>
            <a:ext cx="3887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bfbfbf"/>
                </a:solidFill>
                <a:latin typeface="Helvetica Neue Light"/>
              </a:rPr>
              <a:t>In what units?</a:t>
            </a:r>
            <a:endParaRPr b="0" lang="en-US" sz="3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TextBox 14"/>
          <p:cNvSpPr/>
          <p:nvPr/>
        </p:nvSpPr>
        <p:spPr>
          <a:xfrm rot="20979600">
            <a:off x="360000" y="7162920"/>
            <a:ext cx="2592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62673"/>
                </a:solidFill>
                <a:latin typeface="Helvetica Neue Light"/>
              </a:rPr>
              <a:t>Location?</a:t>
            </a:r>
            <a:endParaRPr b="0" lang="en-US" sz="3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0" name="TextBox 15"/>
          <p:cNvSpPr/>
          <p:nvPr/>
        </p:nvSpPr>
        <p:spPr>
          <a:xfrm>
            <a:off x="3716280" y="4876920"/>
            <a:ext cx="4664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For what purpose?</a:t>
            </a:r>
            <a:endParaRPr b="0" lang="en-US" sz="3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TextBox 16"/>
          <p:cNvSpPr/>
          <p:nvPr/>
        </p:nvSpPr>
        <p:spPr>
          <a:xfrm>
            <a:off x="2088000" y="7238880"/>
            <a:ext cx="96483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Helvetica Neue Light"/>
              </a:rPr>
              <a:t>When was the sensor last cleaned/calibrated?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2" name="TextBox 19"/>
          <p:cNvSpPr/>
          <p:nvPr/>
        </p:nvSpPr>
        <p:spPr>
          <a:xfrm rot="464400">
            <a:off x="-746640" y="5520960"/>
            <a:ext cx="6600600" cy="11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Helvetica Neue Light"/>
              </a:rPr>
              <a:t>Has anyone checked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Helvetica Neue Light"/>
              </a:rPr>
              <a:t>the quality of this value?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3" name="TextBox 20"/>
          <p:cNvSpPr/>
          <p:nvPr/>
        </p:nvSpPr>
        <p:spPr>
          <a:xfrm>
            <a:off x="3301920" y="2052720"/>
            <a:ext cx="607068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000000"/>
                </a:solidFill>
                <a:latin typeface="Helvetica Neue Light"/>
              </a:rPr>
              <a:t>Temperature</a:t>
            </a:r>
            <a:endParaRPr b="0" lang="en-US" sz="85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000000"/>
                </a:solidFill>
                <a:latin typeface="Helvetica Neue Light"/>
              </a:rPr>
              <a:t>31.5</a:t>
            </a:r>
            <a:endParaRPr b="0" lang="en-US" sz="85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4" name="TextBox 21"/>
          <p:cNvSpPr/>
          <p:nvPr/>
        </p:nvSpPr>
        <p:spPr>
          <a:xfrm>
            <a:off x="8322480" y="5029200"/>
            <a:ext cx="43146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Precision/accuracy?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5" name="TextBox 17"/>
          <p:cNvSpPr/>
          <p:nvPr/>
        </p:nvSpPr>
        <p:spPr>
          <a:xfrm>
            <a:off x="4501800" y="9228240"/>
            <a:ext cx="98769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</a:rPr>
              <a:t>AKA – T, Temp, degC, C,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Helvetica Neue Light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Helvetica Neue Light"/>
              </a:rPr>
              <a:t>F… lots of different names!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adata - Exampl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xtBox 10"/>
          <p:cNvSpPr/>
          <p:nvPr/>
        </p:nvSpPr>
        <p:spPr>
          <a:xfrm>
            <a:off x="863640" y="3106800"/>
            <a:ext cx="10896480" cy="54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adata in general does it’s job best when: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- consisten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- digital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- for peopl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- such that computers are happy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8" name="TextBox 13"/>
          <p:cNvSpPr/>
          <p:nvPr/>
        </p:nvSpPr>
        <p:spPr>
          <a:xfrm>
            <a:off x="2337120" y="8429760"/>
            <a:ext cx="1178208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222268"/>
                </a:solidFill>
                <a:latin typeface="Helvetica Neue Light"/>
              </a:rPr>
              <a:t>Enter Metadata Standards</a:t>
            </a:r>
            <a:endParaRPr b="0" lang="en-US" sz="63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adata Standard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Box 10"/>
          <p:cNvSpPr/>
          <p:nvPr/>
        </p:nvSpPr>
        <p:spPr>
          <a:xfrm>
            <a:off x="757080" y="2133720"/>
            <a:ext cx="11747520" cy="9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Local Standards </a:t>
            </a:r>
            <a:r>
              <a:rPr b="0" lang="en-US" sz="4800" spc="-1" strike="noStrike">
                <a:solidFill>
                  <a:srgbClr val="7f7f7f"/>
                </a:solidFill>
                <a:latin typeface="Helvetica Neue Light"/>
              </a:rPr>
              <a:t> (people -&gt; people)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</a:rPr>
              <a:t>File Naming Conventions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Helvetica Neue Light"/>
              </a:rPr>
              <a:t>Standard Operating Procedures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Beyond </a:t>
            </a:r>
            <a:r>
              <a:rPr b="0" lang="en-US" sz="4800" spc="-1" strike="noStrike">
                <a:solidFill>
                  <a:srgbClr val="7f7f7f"/>
                </a:solidFill>
                <a:latin typeface="Helvetica Neue Light"/>
              </a:rPr>
              <a:t>(people -&gt; computers -&gt; people)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5700" spc="-1" strike="noStrike">
                <a:solidFill>
                  <a:srgbClr val="000000"/>
                </a:solidFill>
                <a:latin typeface="Helvetica Neue Light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Helvetica Neue Light"/>
              </a:rPr>
              <a:t>ISO 19115  </a:t>
            </a:r>
            <a:r>
              <a:rPr b="0" lang="en-US" sz="1700" spc="-1" strike="noStrike">
                <a:solidFill>
                  <a:srgbClr val="000000"/>
                </a:solidFill>
                <a:latin typeface="Helvetica Neue Light"/>
              </a:rPr>
              <a:t>(http://www.fgdc.gov/metadata/geospatial-metadata-standards#nap)</a:t>
            </a:r>
            <a:endParaRPr b="0" lang="en-US" sz="17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</a:rPr>
              <a:t>GCMD DIF </a:t>
            </a:r>
            <a:r>
              <a:rPr b="0" lang="en-US" sz="46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Helvetica Neue Light"/>
              </a:rPr>
              <a:t>(http://gcmd.nasa.gov/User/difguide/difman.html)</a:t>
            </a:r>
            <a:endParaRPr b="0" lang="en-US" sz="17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</a:rPr>
              <a:t>DataCite   </a:t>
            </a:r>
            <a:r>
              <a:rPr b="0" lang="en-US" sz="1700" spc="-1" strike="noStrike">
                <a:solidFill>
                  <a:srgbClr val="000000"/>
                </a:solidFill>
                <a:latin typeface="Helvetica Neue Light"/>
              </a:rPr>
              <a:t>(http://schema.datacite.org/)</a:t>
            </a:r>
            <a:endParaRPr b="0" lang="en-US" sz="17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e6e6e"/>
                </a:solidFill>
                <a:latin typeface="Helvetica Neue Light"/>
              </a:rPr>
              <a:t>and many (many) more…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adata Standard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Picture 7" descr=""/>
          <p:cNvPicPr/>
          <p:nvPr/>
        </p:nvPicPr>
        <p:blipFill>
          <a:blip r:embed="rId1"/>
          <a:stretch/>
        </p:blipFill>
        <p:spPr>
          <a:xfrm>
            <a:off x="28440" y="2379600"/>
            <a:ext cx="12997080" cy="6307200"/>
          </a:xfrm>
          <a:prstGeom prst="rect">
            <a:avLst/>
          </a:prstGeom>
          <a:ln w="0">
            <a:noFill/>
          </a:ln>
        </p:spPr>
      </p:pic>
      <p:sp>
        <p:nvSpPr>
          <p:cNvPr id="773" name="TextBox 6"/>
          <p:cNvSpPr/>
          <p:nvPr/>
        </p:nvSpPr>
        <p:spPr>
          <a:xfrm>
            <a:off x="0" y="8709120"/>
            <a:ext cx="13004640" cy="15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Scripps Institution Of Oceanography Pier Water Temperature - Station Dataset (CCELTER). [Online]. Scripps Institution 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of Oceanography Shore Station Program [Producer]. Oceaninformatics Datazoo [Distributor].  (February 28, 2011).  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http://oceaninformatics.ucsd.edu/datazoo/data/ccelter/datasets?action=summary&amp;id=15 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adata Standards in Us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1:46:59Z</dcterms:created>
  <dc:creator/>
  <dc:description/>
  <cp:keywords/>
  <dc:language>en-US</dc:language>
  <cp:lastModifiedBy>Lynn Yarmey</cp:lastModifiedBy>
  <dcterms:modified xsi:type="dcterms:W3CDTF">2012-02-26T22:49:14Z</dcterms:modified>
  <cp:revision>37</cp:revision>
  <dc:subject/>
  <dc:title>ESIP Federation 101</dc:title>
</cp:coreProperties>
</file>